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D46-1291-4F87-A381-CD1195E2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B7A-9617-4A30-8642-88FEFAA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AD4-05C4-486F-B7E3-005D89CE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DAA-7C1B-43F8-831A-3BD5EAF7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CAC-A1EA-48E5-B67C-2F493487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21A-4E9C-4583-BADC-AF98517B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0E7-5288-4D34-8540-45FED92B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60A-5732-43AD-AC04-EF615E38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757-B38E-423F-9309-68285EF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615-93FA-4AE5-B4F2-9B7794F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687-275A-443B-AC31-737D56E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F57-425C-48D5-BEB0-93CD64B1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26B-489F-4574-B360-6DE5E8BA7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 babuino tien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981000"/>
          <a:ext cx="8495640" cy="5590800"/>
        </p:xfrm>
        <a:graphic>
          <a:graphicData uri="http://schemas.openxmlformats.org/drawingml/2006/table">
            <a:tbl>
              <a:tblPr/>
              <a:tblGrid>
                <a:gridCol w="2832120"/>
                <a:gridCol w="2831400"/>
                <a:gridCol w="2832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b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ier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lan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g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e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ri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o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lan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ri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mb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raz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885080" y="551664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85080" y="602136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564400">
            <a:off x="-1725480" y="3022560"/>
            <a:ext cx="676080" cy="87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564400">
            <a:off x="2268000" y="2421000"/>
            <a:ext cx="676440" cy="87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564400">
            <a:off x="5376960" y="533412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564400">
            <a:off x="-1620720" y="5373720"/>
            <a:ext cx="676080" cy="87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2564400">
            <a:off x="1834920" y="4437000"/>
            <a:ext cx="676080" cy="87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rot="2564400">
            <a:off x="5219280" y="1413000"/>
            <a:ext cx="6764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-0.03492 C 0.079 -0.04348 0.07605 -0.03908 0.08212 -0.04463 C 0.08559 -0.04787 0.09236 -0.05435 0.09236 -0.05435 C 0.09879 -0.06753 0.11997 -0.07377 0.13143 -0.07747 C 0.14532 -0.08672 0.15955 -0.08603 0.175 -0.08718 C 0.19775 -0.08603 0.21268 -0.08325 0.23421 -0.0814 C 0.24653 -0.0784 0.25851 -0.07423 0.27066 -0.07169 C 0.27934 -0.06383 0.29983 -0.05851 0.31112 -0.0562 C 0.31893 -0.05712 0.3283 -0.05365 0.33438 -0.06013 C 0.33577 -0.06151 0.33594 -0.06429 0.33733 -0.06591 C 0.34306 -0.07238 0.34757 -0.07562 0.35469 -0.07562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8844E-006 C 0.01163 0.00093 0.01962 0.00093 0.03021 0.00347 C 0.03403 0.0044 0.04149 0.00694 0.04149 0.00717 C 0.05312 0.01434 0.05625 0.01989 0.06319 0.03215 C 0.06875 0.04163 0.07882 0.05019 0.08611 0.05713 C 0.08819 0.06476 0.09097 0.06892 0.09635 0.07331 C 0.09774 0.07563 0.09913 0.07817 0.10052 0.08071 C 0.10191 0.08256 0.10365 0.08395 0.10486 0.08603 C 0.11076 0.09552 0.11354 0.10754 0.11788 0.11818 C 0.12726 0.14177 0.13889 0.16744 0.15226 0.18825 C 0.16111 0.20213 0.17413 0.20814 0.18385 0.2204 C 0.18594 0.24885 0.1908 0.2581 0.20104 0.28307 C 0.20365 0.29579 0.20503 0.30181 0.21128 0.31175 C 0.21371 0.32123 0.21806 0.32516 0.22413 0.33141 C 0.22674 0.34158 0.22396 0.33256 0.23125 0.34575 C 0.2401 0.36194 0.24618 0.36772 0.25851 0.37789 C 0.26389 0.38252 0.26667 0.39177 0.27292 0.39431 C 0.27795 0.39616 0.27743 0.39408 0.27743 0.39778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0786E-006 C 0.00712 -0.00648 0.01042 -0.01457 0.01597 -0.02313 C 0.02153 -0.03168 0.02639 -0.03908 0.02899 -0.05019 C 0.0309 -0.05851 0.03073 -0.06452 0.03195 -0.07331 C 0.03386 -0.08649 0.03872 -0.09875 0.04063 -0.11193 C 0.04167 -0.13737 0.04167 -0.14547 0.04792 -0.16605 C 0.04948 -0.17923 0.05226 -0.19357 0.05799 -0.20467 C 0.06042 -0.21508 0.05764 -0.20629 0.06389 -0.21624 C 0.06493 -0.21809 0.06545 -0.2204 0.06667 -0.22202 C 0.07882 -0.23659 0.07622 -0.23335 0.09132 -0.23543 C 0.10174 -0.23913 0.11094 -0.25278 0.12031 -0.26064 C 0.12656 -0.26596 0.1349 -0.26781 0.14202 -0.27035 C 0.15139 -0.27821 0.15868 -0.28885 0.16962 -0.29348 C 0.18212 -0.30481 0.17361 -0.2988 0.20434 -0.29533 C 0.2125 -0.2944 0.22083 -0.28885 0.22899 -0.2877 C 0.23715 -0.28654 0.24549 -0.28631 0.25365 -0.28562 C 0.26719 -0.27983 0.25643 -0.28377 0.28698 -0.28377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27 -0.06406 C 0.07726 -0.07262 0.07431 -0.06822 0.08038 -0.07377 C 0.08386 -0.07701 0.09063 -0.08349 0.09063 -0.08326 C 0.09705 -0.09667 0.11823 -0.10291 0.12969 -0.10661 C 0.14358 -0.11587 0.15781 -0.11517 0.17327 -0.11633 C 0.19601 -0.11517 0.21094 -0.1124 0.23247 -0.11055 C 0.24479 -0.10754 0.25677 -0.10338 0.26893 -0.10083 C 0.27761 -0.09297 0.29809 -0.08765 0.30938 -0.08534 C 0.31719 -0.08626 0.32656 -0.08279 0.33264 -0.08927 C 0.33403 -0.09066 0.3342 -0.09343 0.33559 -0.09505 C 0.34132 -0.10153 0.34584 -0.10476 0.35295 -0.10476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3 -0.02868 C 0.04861 -0.05643 0.0375 -0.01526 0.04497 -0.05388 C 0.04966 -0.07817 0.06129 -0.10129 0.06962 -0.12326 C 0.07361 -0.13413 0.07865 -0.14338 0.08264 -0.15425 C 0.08386 -0.15749 0.08403 -0.16119 0.08559 -0.16397 C 0.0974 -0.18386 0.11632 -0.20744 0.13195 -0.22178 C 0.14167 -0.23057 0.15469 -0.23705 0.16528 -0.24306 C 0.16823 -0.24468 0.17118 -0.24653 0.17396 -0.24884 C 0.17743 -0.25185 0.18021 -0.25624 0.18403 -0.25855 C 0.23455 -0.29093 0.19046 -0.25948 0.22466 -0.27775 C 0.22969 -0.28053 0.23403 -0.28492 0.23907 -0.28746 C 0.25417 -0.29533 0.27032 -0.30134 0.28559 -0.30874 C 0.29358 -0.31938 0.30105 -0.33117 0.3073 -0.34343 C 0.30677 -0.37049 0.3066 -0.39755 0.30573 -0.4246 C 0.30573 -0.42484 0.304 -0.43802 0.30296 -0.43987 C 0.30087 -0.44334 0.29427 -0.44565 0.29427 -0.44565 E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5 -0.02244 C 0.06077 -0.03169 0.09132 -0.02429 0.10955 -0.02244 C 0.13108 -0.0081 0.15295 0.00647 0.17483 0.01989 C 0.18611 0.02682 0.19827 0.03006 0.20955 0.03723 C 0.21945 0.0555 0.22657 0.07539 0.23854 0.09135 C 0.24045 0.09967 0.24341 0.10569 0.24722 0.11262 C 0.24931 0.12049 0.25191 0.12373 0.25591 0.12997 C 0.25695 0.13182 0.25729 0.13483 0.25886 0.13575 C 0.2625 0.1376 0.26667 0.13691 0.27049 0.1376 C 0.27101 0.14338 0.27188 0.15518 0.27188 0.15518 E">
                                      <p:cBhvr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 babuino tien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981000"/>
          <a:ext cx="8495640" cy="5590800"/>
        </p:xfrm>
        <a:graphic>
          <a:graphicData uri="http://schemas.openxmlformats.org/drawingml/2006/table">
            <a:tbl>
              <a:tblPr/>
              <a:tblGrid>
                <a:gridCol w="2832120"/>
                <a:gridCol w="2831400"/>
                <a:gridCol w="2832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b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ier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lan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g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e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ri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o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lan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ri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mb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raz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7885080" y="551664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5080" y="602136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 babuino tien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981000"/>
          <a:ext cx="8495640" cy="5590800"/>
        </p:xfrm>
        <a:graphic>
          <a:graphicData uri="http://schemas.openxmlformats.org/drawingml/2006/table">
            <a:tbl>
              <a:tblPr/>
              <a:tblGrid>
                <a:gridCol w="2832120"/>
                <a:gridCol w="2831400"/>
                <a:gridCol w="2832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b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ier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lan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g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e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ri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o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lan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ri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mb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raz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7885080" y="551664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602136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0:22:22Z</dcterms:created>
  <dc:creator>Helen</dc:creator>
  <dc:description/>
  <dc:language>en-US</dc:language>
  <cp:lastModifiedBy>Helen</cp:lastModifiedBy>
  <dcterms:modified xsi:type="dcterms:W3CDTF">2010-05-19T18:46:44Z</dcterms:modified>
  <cp:revision>4</cp:revision>
  <dc:subject/>
  <dc:title>Slide 1</dc:title>
</cp:coreProperties>
</file>